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45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45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7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9" name="cvologo_f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03240" cy="5572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363800" y="6613560"/>
            <a:ext cx="155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0" lang="de-DE" sz="1000" spc="-1" strike="noStrike">
                <a:solidFill>
                  <a:srgbClr val="003366"/>
                </a:solidFill>
                <a:latin typeface="Arial"/>
              </a:rPr>
              <a:t>2002 – Rolf Neuendorf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45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42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2429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80808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Grundlagen der </a:t>
            </a:r>
            <a:br>
              <a:rPr sz="3600"/>
            </a:b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LASER-Operatio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65600" y="5257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r. Rolf Neuendo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2" name="laser" descr=""/>
          <p:cNvPicPr/>
          <p:nvPr/>
        </p:nvPicPr>
        <p:blipFill>
          <a:blip r:embed="rId1"/>
          <a:stretch/>
        </p:blipFill>
        <p:spPr>
          <a:xfrm>
            <a:off x="5410080" y="533520"/>
            <a:ext cx="2925720" cy="3657600"/>
          </a:xfrm>
          <a:prstGeom prst="rect">
            <a:avLst/>
          </a:prstGeom>
          <a:ln w="0">
            <a:noFill/>
          </a:ln>
        </p:spPr>
      </p:pic>
      <p:pic>
        <p:nvPicPr>
          <p:cNvPr id="93" name="cvo_fak5" descr=""/>
          <p:cNvPicPr/>
          <p:nvPr/>
        </p:nvPicPr>
        <p:blipFill>
          <a:blip r:embed="rId2"/>
          <a:stretch/>
        </p:blipFill>
        <p:spPr>
          <a:xfrm>
            <a:off x="5715000" y="5719680"/>
            <a:ext cx="25909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Das 2-Niveau System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562720" y="2971800"/>
          <a:ext cx="298584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971800"/>
                    <a:ext cx="29858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876960" y="2286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Absorpt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066680" y="2666880"/>
                <a:ext cx="2629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bs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814320" y="365760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spontane Emiss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66680" y="4038480"/>
                <a:ext cx="2235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po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828360" y="510552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stimulierte Emiss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041480" y="5562720"/>
                <a:ext cx="3073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imuliert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Stimulierte Emissio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führt zu Photon-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Multiplikation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(Lichtverstärkung)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das stimuliert emittierte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Photon besitzt die gleiche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Frequenz, Phase und Richtung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wie das anregende Photon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(Kohärenz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952880" y="2514600"/>
          <a:ext cx="37418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514600"/>
                    <a:ext cx="37418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095880" y="4419720"/>
          <a:ext cx="2590920" cy="10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419720"/>
                    <a:ext cx="25909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Absorption vs. stimulierte Emissio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4038480"/>
            <a:ext cx="4648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Absorption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~N</a:t>
            </a:r>
            <a:r>
              <a:rPr b="0" lang="de-DE" sz="2800" spc="-1" strike="noStrike" baseline="-25000">
                <a:solidFill>
                  <a:srgbClr val="080808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stimulierte Emission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~N</a:t>
            </a:r>
            <a:r>
              <a:rPr b="0" lang="de-DE" sz="2800" spc="-1" strike="noStrike" baseline="-25000">
                <a:solidFill>
                  <a:srgbClr val="080808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800600" y="2362320"/>
          <a:ext cx="213372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362320"/>
                    <a:ext cx="213372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905120" y="2362320"/>
          <a:ext cx="2133360" cy="13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362320"/>
                    <a:ext cx="213336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775880" y="5334120"/>
            <a:ext cx="558216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Emission bevorzugt, wenn N</a:t>
            </a:r>
            <a:r>
              <a:rPr b="0" lang="de-DE" sz="2800" spc="-1" strike="noStrike" baseline="-25000">
                <a:solidFill>
                  <a:srgbClr val="080808"/>
                </a:solidFill>
                <a:latin typeface="Arial"/>
              </a:rPr>
              <a:t>2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&gt; N</a:t>
            </a:r>
            <a:r>
              <a:rPr b="0" lang="de-DE" sz="2800" spc="-1" strike="noStrike" baseline="-25000">
                <a:solidFill>
                  <a:srgbClr val="080808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45b134"/>
                </a:solidFill>
                <a:latin typeface="Arial"/>
              </a:rPr>
              <a:t>Besetzungsinversion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Besetzungsinversio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Gleichgewichts-Besetzung von Zuständen:  </a:t>
            </a:r>
            <a:br>
              <a:rPr sz="2800"/>
            </a:br>
            <a:r>
              <a:rPr b="0" lang="de-DE" sz="2800" spc="-1" strike="noStrike">
                <a:solidFill>
                  <a:srgbClr val="45b134"/>
                </a:solidFill>
                <a:latin typeface="Arial"/>
              </a:rPr>
              <a:t>Boltzmann-Verteilu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352680" y="3429000"/>
                <a:ext cx="2349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∝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1274400" y="4038480"/>
            <a:ext cx="757368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E</a:t>
            </a:r>
            <a:r>
              <a:rPr b="0" lang="de-DE" sz="2800" spc="-1" strike="noStrike" baseline="-25000">
                <a:solidFill>
                  <a:srgbClr val="080808"/>
                </a:solidFill>
                <a:latin typeface="Arial"/>
              </a:rPr>
              <a:t>2 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&gt; E</a:t>
            </a:r>
            <a:r>
              <a:rPr b="0" lang="de-DE" sz="2800" spc="-1" strike="noStrike" baseline="-25000">
                <a:solidFill>
                  <a:srgbClr val="080808"/>
                </a:solidFill>
                <a:latin typeface="Arial"/>
              </a:rPr>
              <a:t>1 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im thermischen Gleichgewic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keine Besetzungsinversion mögli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21280" y="548640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5b134"/>
                </a:solidFill>
                <a:latin typeface="Arial"/>
              </a:rPr>
              <a:t>Nicht-Gleichgewichtszustand erforderlich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Pump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4 Niveau Syst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141720" y="3124080"/>
          <a:ext cx="432576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1720" y="3124080"/>
                    <a:ext cx="432576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185920" y="3125880"/>
          <a:ext cx="5281560" cy="31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5920" y="3125880"/>
                    <a:ext cx="5281560" cy="31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Pump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4 Niveau Syst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129120" y="3005280"/>
          <a:ext cx="5252760" cy="33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9120" y="3005280"/>
                    <a:ext cx="525276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Pump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4 Niveau Syst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3141720" y="3125880"/>
          <a:ext cx="4325760" cy="31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1720" y="3125880"/>
                    <a:ext cx="4325760" cy="31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Pump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4 Niveau Syst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3124080" y="3125880"/>
          <a:ext cx="4386240" cy="31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125880"/>
                    <a:ext cx="4386240" cy="31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Pump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4 Niveau Syst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124080" y="3124080"/>
          <a:ext cx="432612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124080"/>
                    <a:ext cx="432612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Pump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4 Niveau Syst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Inhal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22856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Grundlagen der Lasertechnik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Erzeugung und Modifikation von Laserpulse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2590920"/>
            <a:ext cx="3886200" cy="3886200"/>
          </a:xfrm>
          <a:prstGeom prst="rect">
            <a:avLst/>
          </a:prstGeom>
          <a:solidFill>
            <a:srgbClr val="0042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Reale Lasermedi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Nd:YAG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035680" y="2362320"/>
          <a:ext cx="3727440" cy="43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5680" y="2362320"/>
                    <a:ext cx="3727440" cy="43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23920" y="21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8" name="LASER-ROD-SQ" descr=""/>
          <p:cNvPicPr/>
          <p:nvPr/>
        </p:nvPicPr>
        <p:blipFill>
          <a:blip r:embed="rId3"/>
          <a:stretch/>
        </p:blipFill>
        <p:spPr>
          <a:xfrm>
            <a:off x="1143000" y="3124080"/>
            <a:ext cx="3040200" cy="2435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526200" y="5075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d:YA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25480" y="3962520"/>
            <a:ext cx="119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d:YVO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83440" y="548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de-DE" sz="2000" spc="-1" strike="noStrike" baseline="30000">
                <a:solidFill>
                  <a:srgbClr val="ffffff"/>
                </a:solidFill>
                <a:latin typeface="Arial"/>
              </a:rPr>
              <a:t>4+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:YA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5680" y="533412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Yb:YA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85760" y="42670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d:YL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69640" y="30481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r:Rub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16120" y="28195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i:Saph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Verstärkungsprofil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endliche Linienbreite (der Laserniveau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38080" y="3200400"/>
          <a:ext cx="29131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00400"/>
                    <a:ext cx="29131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334120" y="3124080"/>
          <a:ext cx="3276360" cy="32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124080"/>
                    <a:ext cx="327636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3962520" y="4191120"/>
            <a:ext cx="990360" cy="761760"/>
          </a:xfrm>
          <a:prstGeom prst="rightArrow">
            <a:avLst>
              <a:gd name="adj1" fmla="val 50000"/>
              <a:gd name="adj2" fmla="val 3250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Verstärkungsprofil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09680" y="2666520"/>
            <a:ext cx="5562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typische Breiten </a:t>
            </a:r>
            <a:r>
              <a:rPr b="0" lang="de-DE" sz="2400" spc="-1" strike="noStrike">
                <a:solidFill>
                  <a:srgbClr val="080808"/>
                </a:solidFill>
                <a:latin typeface="Symbol"/>
                <a:ea typeface="Symbol"/>
              </a:rPr>
              <a:t></a:t>
            </a:r>
            <a:r>
              <a:rPr b="0" lang="de-DE" sz="2400" spc="-1" strike="noStrike" baseline="-25000">
                <a:solidFill>
                  <a:srgbClr val="080808"/>
                </a:solidFill>
                <a:latin typeface="Symbol"/>
                <a:ea typeface="Symbol"/>
              </a:rPr>
              <a:t></a:t>
            </a:r>
            <a:r>
              <a:rPr b="0" lang="de-DE" sz="2400" spc="-1" strike="noStrike">
                <a:solidFill>
                  <a:srgbClr val="080808"/>
                </a:solidFill>
                <a:latin typeface="Symbol"/>
                <a:ea typeface="Symbol"/>
              </a:rPr>
              <a:t>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80808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080808"/>
                </a:solidFill>
                <a:latin typeface="MT Extra"/>
                <a:ea typeface="MT Extra"/>
              </a:rPr>
              <a:t></a:t>
            </a:r>
            <a:r>
              <a:rPr b="0" lang="de-DE" sz="2400" spc="-1" strike="noStrike">
                <a:solidFill>
                  <a:srgbClr val="080808"/>
                </a:solidFill>
                <a:latin typeface="Symbol"/>
                <a:ea typeface="Symbol"/>
              </a:rPr>
              <a:t></a:t>
            </a:r>
            <a:r>
              <a:rPr b="0" i="1" lang="de-DE" sz="2400" spc="-1" strike="noStrike">
                <a:solidFill>
                  <a:srgbClr val="080808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80808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45b134"/>
                </a:solidFill>
                <a:uFillTx/>
                <a:latin typeface="Arial"/>
              </a:rPr>
              <a:t>Medium</a:t>
            </a:r>
            <a:r>
              <a:rPr b="0" lang="de-DE" sz="2400" spc="-1" strike="noStrike" u="sng">
                <a:solidFill>
                  <a:srgbClr val="45b134"/>
                </a:solidFill>
                <a:uFillTx/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45b134"/>
                </a:solidFill>
                <a:uFillTx/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45b134"/>
                </a:solidFill>
                <a:uFillTx/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45b134"/>
                </a:solidFill>
                <a:uFillTx/>
                <a:latin typeface="Symbol"/>
                <a:ea typeface="Symbol"/>
              </a:rPr>
              <a:t></a:t>
            </a:r>
            <a:r>
              <a:rPr b="0" lang="de-DE" sz="2400" spc="-1" strike="noStrike" u="sng" baseline="-25000">
                <a:solidFill>
                  <a:srgbClr val="45b134"/>
                </a:solidFill>
                <a:uFillTx/>
                <a:latin typeface="Symbol"/>
                <a:ea typeface="Symbol"/>
              </a:rPr>
              <a:t></a:t>
            </a:r>
            <a:r>
              <a:rPr b="0" lang="de-DE" sz="2400" spc="-1" strike="noStrike" u="sng">
                <a:solidFill>
                  <a:srgbClr val="45b134"/>
                </a:solidFill>
                <a:uFillTx/>
                <a:latin typeface="Arial"/>
              </a:rPr>
              <a:t> / Hz__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Argon-Ionen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1,1 · 10</a:t>
            </a:r>
            <a:r>
              <a:rPr b="0" lang="de-DE" sz="2400" spc="-1" strike="noStrike" baseline="30000">
                <a:solidFill>
                  <a:srgbClr val="080808"/>
                </a:solidFill>
                <a:latin typeface="Arial"/>
              </a:rPr>
              <a:t>8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Helium-Neon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1,5 · 10</a:t>
            </a:r>
            <a:r>
              <a:rPr b="0" lang="de-DE" sz="2400" spc="-1" strike="noStrike" baseline="30000">
                <a:solidFill>
                  <a:srgbClr val="080808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Nd:YAG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2,1 · 10</a:t>
            </a:r>
            <a:r>
              <a:rPr b="0" lang="de-DE" sz="2400" spc="-1" strike="noStrike" baseline="30000">
                <a:solidFill>
                  <a:srgbClr val="080808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Rhodamin 6G (Dye)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1,0 · 10</a:t>
            </a:r>
            <a:r>
              <a:rPr b="0" lang="de-DE" sz="2400" spc="-1" strike="noStrike" baseline="30000">
                <a:solidFill>
                  <a:srgbClr val="080808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Superstrah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762120" y="2438280"/>
          <a:ext cx="23605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23605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00040" y="23619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Aktives Medium (mit Inversion) 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45b134"/>
                </a:solidFill>
                <a:latin typeface="Arial"/>
              </a:rPr>
              <a:t>„Superstrahlung“</a:t>
            </a:r>
            <a:br>
              <a:rPr sz="2800"/>
            </a:b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(spontan) emittiertes Photon wird verstärk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isotrop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undefinierte Verstärkung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viele unkorrelierte Wellenzüge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Feedback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Bedingung für (stabile) Laser-Oszillation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5b134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45b134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45b134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45b134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45b134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Superstrahlung wird in aktives Medium 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rückgekoppel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971800" y="4724280"/>
          <a:ext cx="3270240" cy="16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724280"/>
                    <a:ext cx="327024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Resonator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Reflexionen an den Resonatorspiegel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Ausbildung stehender Welle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Bedingung für konstruktive Interferenz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43000" y="4724280"/>
          <a:ext cx="296532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24280"/>
                    <a:ext cx="296532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410080" y="4724280"/>
                <a:ext cx="1892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952880" y="5562720"/>
                <a:ext cx="30225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Δ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Longitudinale (axiale) Lasermod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in der Regel passen viele Resonatormoden in das Verstärkungsprofil des aktiven Medium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56480" y="3394080"/>
            <a:ext cx="2874960" cy="2156400"/>
            <a:chOff x="5856480" y="3394080"/>
            <a:chExt cx="2874960" cy="215640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6400800" y="3394080"/>
                  <a:ext cx="1498320" cy="71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ode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"/>
            <p:cNvSpPr/>
            <p:nvPr/>
          </p:nvSpPr>
          <p:spPr>
            <a:xfrm>
              <a:off x="5856480" y="4079880"/>
              <a:ext cx="287496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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45b134"/>
                  </a:solidFill>
                  <a:latin typeface="Symbol"/>
                  <a:ea typeface="Symbol"/>
                </a:rPr>
                <a:t></a:t>
              </a:r>
              <a:r>
                <a:rPr b="0" lang="de-DE" sz="2400" spc="-1" strike="noStrike" baseline="-25000">
                  <a:solidFill>
                    <a:srgbClr val="45b134"/>
                  </a:solidFill>
                  <a:latin typeface="Arial"/>
                </a:rPr>
                <a:t>mode</a:t>
              </a:r>
              <a:r>
                <a:rPr b="0" lang="de-DE" sz="2400" spc="-1" strike="noStrike">
                  <a:solidFill>
                    <a:srgbClr val="45b134"/>
                  </a:solidFill>
                  <a:latin typeface="Arial"/>
                </a:rPr>
                <a:t> ~ 1,5 ·10</a:t>
              </a:r>
              <a:r>
                <a:rPr b="0" lang="de-DE" sz="2400" spc="-1" strike="noStrike" baseline="30000">
                  <a:solidFill>
                    <a:srgbClr val="45b134"/>
                  </a:solidFill>
                  <a:latin typeface="Arial"/>
                </a:rPr>
                <a:t>8</a:t>
              </a:r>
              <a:r>
                <a:rPr b="0" lang="de-DE" sz="2400" spc="-1" strike="noStrike">
                  <a:solidFill>
                    <a:srgbClr val="45b134"/>
                  </a:solidFill>
                  <a:latin typeface="Arial"/>
                </a:rPr>
                <a:t> Hz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80808"/>
                  </a:solidFill>
                  <a:latin typeface="Arial"/>
                </a:rPr>
                <a:t>(mit </a:t>
              </a:r>
              <a:r>
                <a:rPr b="0" i="1" lang="de-DE" sz="2400" spc="-1" strike="noStrike">
                  <a:solidFill>
                    <a:srgbClr val="080808"/>
                  </a:solidFill>
                  <a:latin typeface="Arial"/>
                </a:rPr>
                <a:t>L</a:t>
              </a:r>
              <a:r>
                <a:rPr b="0" lang="de-DE" sz="2400" spc="-1" strike="noStrike">
                  <a:solidFill>
                    <a:srgbClr val="080808"/>
                  </a:solidFill>
                  <a:latin typeface="Arial"/>
                </a:rPr>
                <a:t> = 1m)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865840" y="5715000"/>
            <a:ext cx="3031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zum Vergleich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5b134"/>
                </a:solidFill>
                <a:latin typeface="Symbol"/>
                <a:ea typeface="Symbol"/>
              </a:rPr>
              <a:t></a:t>
            </a:r>
            <a:r>
              <a:rPr b="0" lang="de-DE" sz="2400" spc="-1" strike="noStrike" baseline="-25000">
                <a:solidFill>
                  <a:srgbClr val="45b134"/>
                </a:solidFill>
                <a:latin typeface="Arial"/>
              </a:rPr>
              <a:t>gain</a:t>
            </a:r>
            <a:r>
              <a:rPr b="0" lang="de-DE" sz="2400" spc="-1" strike="noStrike">
                <a:solidFill>
                  <a:srgbClr val="45b134"/>
                </a:solidFill>
                <a:latin typeface="Arial"/>
              </a:rPr>
              <a:t> ~ 10</a:t>
            </a:r>
            <a:r>
              <a:rPr b="0" lang="de-DE" sz="2400" spc="-1" strike="noStrike" baseline="30000">
                <a:solidFill>
                  <a:srgbClr val="45b134"/>
                </a:solidFill>
                <a:latin typeface="Arial"/>
              </a:rPr>
              <a:t>8</a:t>
            </a:r>
            <a:r>
              <a:rPr b="0" lang="de-DE" sz="2400" spc="-1" strike="noStrike">
                <a:solidFill>
                  <a:srgbClr val="45b134"/>
                </a:solidFill>
                <a:latin typeface="Arial"/>
              </a:rPr>
              <a:t> – 10</a:t>
            </a:r>
            <a:r>
              <a:rPr b="0" lang="de-DE" sz="2400" spc="-1" strike="noStrike" baseline="30000">
                <a:solidFill>
                  <a:srgbClr val="45b134"/>
                </a:solidFill>
                <a:latin typeface="Arial"/>
              </a:rPr>
              <a:t>14</a:t>
            </a:r>
            <a:r>
              <a:rPr b="0" lang="de-DE" sz="2400" spc="-1" strike="noStrike">
                <a:solidFill>
                  <a:srgbClr val="45b134"/>
                </a:solidFill>
                <a:latin typeface="Arial"/>
              </a:rPr>
              <a:t> H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838080" y="3352680"/>
            <a:ext cx="4648320" cy="3465720"/>
            <a:chOff x="838080" y="3352680"/>
            <a:chExt cx="4648320" cy="3465720"/>
          </a:xfrm>
        </p:grpSpPr>
        <p:graphicFrame>
          <p:nvGraphicFramePr>
            <p:cNvPr id="226" name=""/>
            <p:cNvGraphicFramePr/>
            <p:nvPr/>
          </p:nvGraphicFramePr>
          <p:xfrm>
            <a:off x="838080" y="3352680"/>
            <a:ext cx="4648320" cy="346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3352680"/>
                      <a:ext cx="4648320" cy="346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rot="16200000">
              <a:off x="487080" y="4281480"/>
              <a:ext cx="15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Arial"/>
                </a:rPr>
                <a:t>Verstärkung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4483080" y="397332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80808"/>
                  </a:solidFill>
                  <a:latin typeface="Arial"/>
                </a:rPr>
                <a:t>Moden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2760" y="61722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Resonatorumlauf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905120" y="3124080"/>
          <a:ext cx="5930640" cy="25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124080"/>
                    <a:ext cx="593064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905120" y="3124080"/>
          <a:ext cx="593064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124080"/>
                    <a:ext cx="59306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Resonatorumlauf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905120" y="3135240"/>
          <a:ext cx="59306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135240"/>
                    <a:ext cx="59306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Resonatorumlauf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Grundlag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5b134"/>
                </a:solidFill>
                <a:latin typeface="Arial"/>
              </a:rPr>
              <a:t>LASER    – Light Amplification byStimulated </a:t>
            </a:r>
            <a:br>
              <a:rPr sz="2800"/>
            </a:br>
            <a:r>
              <a:rPr b="0" lang="de-DE" sz="2800" spc="-1" strike="noStrike">
                <a:solidFill>
                  <a:srgbClr val="45b134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45b134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45b134"/>
                </a:solidFill>
                <a:latin typeface="Arial"/>
              </a:rPr>
              <a:t>Emission of Radiat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Physikalische Grundlage: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Das 2 Niveau Syst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874880" y="3124080"/>
          <a:ext cx="5973840" cy="33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4880" y="3124080"/>
                    <a:ext cx="597384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Resonatorumlauf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655640" y="2590920"/>
          <a:ext cx="619308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590920"/>
                    <a:ext cx="619308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Resonatorumlauf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Resonatorumlauf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Verstärkung, wen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Schwellenwert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523880" y="3124080"/>
                <a:ext cx="1968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676520" y="4800600"/>
                <a:ext cx="2260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4343400" y="2514600"/>
            <a:ext cx="4648320" cy="3465360"/>
            <a:chOff x="4343400" y="2514600"/>
            <a:chExt cx="4648320" cy="3465360"/>
          </a:xfrm>
        </p:grpSpPr>
        <p:graphicFrame>
          <p:nvGraphicFramePr>
            <p:cNvPr id="251" name=""/>
            <p:cNvGraphicFramePr/>
            <p:nvPr/>
          </p:nvGraphicFramePr>
          <p:xfrm>
            <a:off x="4343400" y="2514600"/>
            <a:ext cx="4648320" cy="34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2514600"/>
                      <a:ext cx="4648320" cy="34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 rot="16200000">
              <a:off x="3993840" y="3276360"/>
              <a:ext cx="15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Arial"/>
                </a:rPr>
                <a:t>Verstärkung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7988400" y="313524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80808"/>
                  </a:solidFill>
                  <a:latin typeface="Arial"/>
                </a:rPr>
                <a:t>Moden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07720" y="53341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0" y="5105520"/>
              <a:ext cx="4191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10160" y="472428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Arial"/>
                </a:rPr>
                <a:t>Schwell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Resonatorverlust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80808"/>
                </a:solidFill>
                <a:latin typeface="Arial"/>
              </a:rPr>
              <a:t>R</a:t>
            </a:r>
            <a:r>
              <a:rPr b="0" lang="de-DE" sz="2800" spc="-1" strike="noStrike" baseline="-25000">
                <a:solidFill>
                  <a:srgbClr val="080808"/>
                </a:solidFill>
                <a:latin typeface="Arial"/>
              </a:rPr>
              <a:t>1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, </a:t>
            </a:r>
            <a:r>
              <a:rPr b="0" i="1" lang="de-DE" sz="2800" spc="-1" strike="noStrike">
                <a:solidFill>
                  <a:srgbClr val="080808"/>
                </a:solidFill>
                <a:latin typeface="Arial"/>
              </a:rPr>
              <a:t>R</a:t>
            </a:r>
            <a:r>
              <a:rPr b="0" lang="de-DE" sz="2800" spc="-1" strike="noStrike" baseline="-25000">
                <a:solidFill>
                  <a:srgbClr val="080808"/>
                </a:solidFill>
                <a:latin typeface="Arial"/>
              </a:rPr>
              <a:t>2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&lt; 100%  (Auskopplung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Absorptionsverluste (A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Beugungsverlust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048120" y="3505320"/>
          <a:ext cx="3922560" cy="29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505320"/>
                    <a:ext cx="3922560" cy="29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28000" y="3886200"/>
            <a:ext cx="1922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24290"/>
                </a:solidFill>
                <a:latin typeface="Arial"/>
              </a:rPr>
              <a:t>Äquival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2429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24290"/>
                </a:solidFill>
                <a:latin typeface="Arial"/>
              </a:rPr>
              <a:t>Spaltsy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Transversale Lasermod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Beugung </a:t>
            </a: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transversale Mode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90720" y="3733920"/>
          <a:ext cx="1239840" cy="16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33920"/>
                    <a:ext cx="123984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800600" y="3189240"/>
          <a:ext cx="3733920" cy="26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189240"/>
                    <a:ext cx="373392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843120" y="3276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24290"/>
                </a:solidFill>
                <a:latin typeface="Arial"/>
              </a:rPr>
              <a:t>Spiegelsy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4343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242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7960" y="6138720"/>
            <a:ext cx="80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iterative Berechnung der Beugungsfigur </a:t>
            </a:r>
            <a:r>
              <a:rPr b="0" lang="de-DE" sz="2400" spc="-1" strike="noStrike">
                <a:solidFill>
                  <a:srgbClr val="080808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 Fox-Gordon-G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Transversale Lasermod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3" name="fpmodes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Modenselektio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33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transversale Moden</a:t>
            </a:r>
            <a:br>
              <a:rPr sz="2400"/>
            </a:br>
            <a:r>
              <a:rPr b="0" lang="de-DE" sz="2400" spc="-1" strike="noStrike">
                <a:solidFill>
                  <a:srgbClr val="024290"/>
                </a:solidFill>
                <a:latin typeface="Arial"/>
              </a:rPr>
              <a:t>hohe Mode = große </a:t>
            </a:r>
            <a:br>
              <a:rPr sz="2400"/>
            </a:br>
            <a:r>
              <a:rPr b="0" lang="de-DE" sz="2400" spc="-1" strike="noStrike">
                <a:solidFill>
                  <a:srgbClr val="024290"/>
                </a:solidFill>
                <a:latin typeface="Arial"/>
              </a:rPr>
              <a:t>laterale Ausdehnung</a:t>
            </a:r>
            <a:br>
              <a:rPr sz="2400"/>
            </a:br>
            <a:r>
              <a:rPr b="0" lang="de-DE" sz="2400" spc="-1" strike="noStrike">
                <a:solidFill>
                  <a:srgbClr val="02429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24290"/>
                </a:solidFill>
                <a:latin typeface="Arial"/>
              </a:rPr>
              <a:t> Selektion TEM</a:t>
            </a:r>
            <a:r>
              <a:rPr b="0" lang="de-DE" sz="2400" spc="-1" strike="noStrike" baseline="-25000">
                <a:solidFill>
                  <a:srgbClr val="024290"/>
                </a:solidFill>
                <a:latin typeface="Arial"/>
              </a:rPr>
              <a:t>00</a:t>
            </a:r>
            <a:r>
              <a:rPr b="0" lang="de-DE" sz="2400" spc="-1" strike="noStrike">
                <a:solidFill>
                  <a:srgbClr val="024290"/>
                </a:solidFill>
                <a:latin typeface="Arial"/>
              </a:rPr>
              <a:t>-</a:t>
            </a:r>
            <a:br>
              <a:rPr sz="2400"/>
            </a:br>
            <a:r>
              <a:rPr b="0" lang="de-DE" sz="2400" spc="-1" strike="noStrike">
                <a:solidFill>
                  <a:srgbClr val="024290"/>
                </a:solidFill>
                <a:latin typeface="Arial"/>
              </a:rPr>
              <a:t>     Mode (Blend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logitudinale Moden</a:t>
            </a:r>
            <a:br>
              <a:rPr sz="2400"/>
            </a:b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2429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24290"/>
                </a:solidFill>
                <a:latin typeface="Arial"/>
              </a:rPr>
              <a:t> z.B.  zusätzliches,</a:t>
            </a:r>
            <a:br>
              <a:rPr sz="2400"/>
            </a:br>
            <a:r>
              <a:rPr b="0" lang="de-DE" sz="2400" spc="-1" strike="noStrike">
                <a:solidFill>
                  <a:srgbClr val="024290"/>
                </a:solidFill>
                <a:latin typeface="Arial"/>
              </a:rPr>
              <a:t>     (inkommensurables)</a:t>
            </a:r>
            <a:br>
              <a:rPr sz="2400"/>
            </a:br>
            <a:r>
              <a:rPr b="0" lang="de-DE" sz="2400" spc="-1" strike="noStrike">
                <a:solidFill>
                  <a:srgbClr val="024290"/>
                </a:solidFill>
                <a:latin typeface="Arial"/>
              </a:rPr>
              <a:t>      Interferenzfilter</a:t>
            </a:r>
            <a:br>
              <a:rPr sz="2400"/>
            </a:br>
            <a:r>
              <a:rPr b="0" lang="de-DE" sz="2400" spc="-1" strike="noStrike">
                <a:solidFill>
                  <a:srgbClr val="024290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45b134"/>
                </a:solidFill>
                <a:latin typeface="Arial"/>
              </a:rPr>
              <a:t>(Etalon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419720" y="2743200"/>
            <a:ext cx="4724280" cy="3660120"/>
            <a:chOff x="4419720" y="2743200"/>
            <a:chExt cx="4724280" cy="3660120"/>
          </a:xfrm>
        </p:grpSpPr>
        <p:graphicFrame>
          <p:nvGraphicFramePr>
            <p:cNvPr id="277" name=""/>
            <p:cNvGraphicFramePr/>
            <p:nvPr/>
          </p:nvGraphicFramePr>
          <p:xfrm>
            <a:off x="4419720" y="2743200"/>
            <a:ext cx="4724280" cy="356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19720" y="2743200"/>
                      <a:ext cx="4724280" cy="35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9" name=""/>
            <p:cNvSpPr/>
            <p:nvPr/>
          </p:nvSpPr>
          <p:spPr>
            <a:xfrm>
              <a:off x="8460360" y="59436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48320" y="5486400"/>
              <a:ext cx="4267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42120" y="5153040"/>
              <a:ext cx="99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0000"/>
                  </a:solidFill>
                  <a:latin typeface="Arial"/>
                </a:rPr>
                <a:t>Schwell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73440" y="2971800"/>
              <a:ext cx="173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80808"/>
                  </a:solidFill>
                  <a:latin typeface="Arial"/>
                </a:rPr>
                <a:t>Resonatormoden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84240" y="3962520"/>
              <a:ext cx="1275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0000"/>
                  </a:solidFill>
                  <a:latin typeface="Arial"/>
                </a:rPr>
                <a:t>Verstärkung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33560" y="304812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5b134"/>
                  </a:solidFill>
                  <a:latin typeface="Arial"/>
                </a:rPr>
                <a:t>Filtermoden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Erzeugung von Laserpuls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Güteschaltung des Resonators (Q-Switch)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ns -, ps - Puls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aktive/passive Modenkopplung (mode locking)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ps - , fs - Puls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Güteschaltung (Q-Switch)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19520" y="2509920"/>
          <a:ext cx="449568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509920"/>
                    <a:ext cx="449568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676520" y="3132000"/>
          <a:ext cx="521316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132000"/>
                    <a:ext cx="521316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Güteschaltung mit Pockelszell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Das 2-Niveau System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562720" y="2971800"/>
          <a:ext cx="298584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971800"/>
                    <a:ext cx="29858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676520" y="3121200"/>
          <a:ext cx="6621480" cy="30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121200"/>
                    <a:ext cx="662148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Güteschaltung mit Pockelszell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Güteschaltung mit AO-Schalter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Akusto-Optischer-Schalter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990720" y="3505320"/>
          <a:ext cx="365112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05320"/>
                    <a:ext cx="365112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572000" y="3505320"/>
          <a:ext cx="3657600" cy="28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505320"/>
                    <a:ext cx="3657600" cy="28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Modenkopp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505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Mehrere (viel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Moden innerhalb de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Verstärkungsprofil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Laserbetrieb in diese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Moden möglich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343400" y="2514600"/>
            <a:ext cx="4648320" cy="3465360"/>
            <a:chOff x="4343400" y="2514600"/>
            <a:chExt cx="4648320" cy="3465360"/>
          </a:xfrm>
        </p:grpSpPr>
        <p:graphicFrame>
          <p:nvGraphicFramePr>
            <p:cNvPr id="305" name=""/>
            <p:cNvGraphicFramePr/>
            <p:nvPr/>
          </p:nvGraphicFramePr>
          <p:xfrm>
            <a:off x="4343400" y="2514600"/>
            <a:ext cx="4648320" cy="34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2514600"/>
                      <a:ext cx="4648320" cy="34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7" name=""/>
            <p:cNvSpPr/>
            <p:nvPr/>
          </p:nvSpPr>
          <p:spPr>
            <a:xfrm rot="16200000">
              <a:off x="3993840" y="3276360"/>
              <a:ext cx="15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Arial"/>
                </a:rPr>
                <a:t>Verstärkung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00000">
              <a:off x="7988400" y="313524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80808"/>
                  </a:solidFill>
                  <a:latin typeface="Arial"/>
                </a:rPr>
                <a:t>Moden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07720" y="53341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5105520"/>
              <a:ext cx="4191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10160" y="472428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Arial"/>
                </a:rPr>
                <a:t>Schwell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2133720" y="3809880"/>
            <a:ext cx="533160" cy="685800"/>
          </a:xfrm>
          <a:prstGeom prst="downArrow">
            <a:avLst>
              <a:gd name="adj1" fmla="val 50000"/>
              <a:gd name="adj2" fmla="val 32157"/>
            </a:avLst>
          </a:prstGeom>
          <a:solidFill>
            <a:srgbClr val="004290"/>
          </a:solidFill>
          <a:ln w="9360">
            <a:solidFill>
              <a:srgbClr val="0042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2895480" y="2971800"/>
            <a:ext cx="5790600" cy="1069200"/>
            <a:chOff x="2895480" y="2971800"/>
            <a:chExt cx="5790600" cy="1069200"/>
          </a:xfrm>
        </p:grpSpPr>
        <p:sp>
          <p:nvSpPr>
            <p:cNvPr id="314" name=""/>
            <p:cNvSpPr/>
            <p:nvPr/>
          </p:nvSpPr>
          <p:spPr>
            <a:xfrm>
              <a:off x="8001000" y="2971800"/>
              <a:ext cx="533520" cy="4572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72200" y="2971800"/>
              <a:ext cx="1600200" cy="533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bb9ff"/>
            </a:solidFill>
            <a:ln w="9360">
              <a:solidFill>
                <a:srgbClr val="9bb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2971800"/>
              <a:ext cx="1752840" cy="457200"/>
            </a:xfrm>
            <a:prstGeom prst="wedgeRoundRectCallout">
              <a:avLst>
                <a:gd name="adj1" fmla="val 5796"/>
                <a:gd name="adj2" fmla="val 96875"/>
                <a:gd name="adj3" fmla="val 16667"/>
              </a:avLst>
            </a:prstGeom>
            <a:solidFill>
              <a:srgbClr val="99cc99"/>
            </a:soli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8480" y="358128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99cc99"/>
                  </a:solidFill>
                  <a:latin typeface="Arial"/>
                </a:rPr>
                <a:t>Amplitud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15440" y="3581280"/>
              <a:ext cx="22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9bb9ff"/>
                  </a:solidFill>
                  <a:latin typeface="Arial"/>
                </a:rPr>
                <a:t>Modenfrequenz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2800" y="350532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3300"/>
                  </a:solidFill>
                  <a:latin typeface="Arial"/>
                </a:rPr>
                <a:t>Phas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Modenkopp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Überlagerung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996840" y="2819520"/>
                <a:ext cx="7620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⋅</m:t>
                            </m:r>
                            <m:r>
                              <m:t xml:space="preserve">Δω</m:t>
                            </m:r>
                          </m:e>
                        </m:d>
                      </m:e>
                    </m:nary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i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Δω</m:t>
                                </m:r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3" name=""/>
          <p:cNvGrpSpPr/>
          <p:nvPr/>
        </p:nvGrpSpPr>
        <p:grpSpPr>
          <a:xfrm>
            <a:off x="914400" y="4114800"/>
            <a:ext cx="7924680" cy="2316600"/>
            <a:chOff x="914400" y="4114800"/>
            <a:chExt cx="7924680" cy="2316600"/>
          </a:xfrm>
        </p:grpSpPr>
        <p:sp>
          <p:nvSpPr>
            <p:cNvPr id="324" name=""/>
            <p:cNvSpPr/>
            <p:nvPr/>
          </p:nvSpPr>
          <p:spPr>
            <a:xfrm>
              <a:off x="914400" y="4114800"/>
              <a:ext cx="7924680" cy="23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80808"/>
                  </a:solidFill>
                  <a:latin typeface="Arial"/>
                </a:rPr>
                <a:t>zufällige Phasenbeziehung </a:t>
              </a:r>
              <a:r>
                <a:rPr b="0" lang="de-DE" sz="24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</a:t>
              </a:r>
              <a:r>
                <a:rPr b="0" lang="de-DE" sz="2400" spc="-1" strike="noStrike">
                  <a:solidFill>
                    <a:srgbClr val="080808"/>
                  </a:solidFill>
                  <a:latin typeface="Arial"/>
                </a:rPr>
                <a:t> feste Phasenbeziehun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</a:t>
              </a:r>
              <a:r>
                <a:rPr b="0" i="1" lang="de-DE" sz="2400" spc="-1" strike="noStrike" baseline="-25000">
                  <a:solidFill>
                    <a:srgbClr val="080808"/>
                  </a:solidFill>
                  <a:latin typeface="Arial"/>
                </a:rPr>
                <a:t>j</a:t>
              </a:r>
              <a:r>
                <a:rPr b="0" lang="de-DE" sz="2400" spc="-1" strike="noStrike">
                  <a:solidFill>
                    <a:srgbClr val="080808"/>
                  </a:solidFill>
                  <a:latin typeface="Arial"/>
                </a:rPr>
                <a:t>    statistisch verteilt</a:t>
              </a:r>
              <a:r>
                <a:rPr b="0" lang="de-DE" sz="2400" spc="-1" strike="noStrike">
                  <a:solidFill>
                    <a:srgbClr val="080808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80808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80808"/>
                  </a:solidFill>
                  <a:latin typeface="Symbol"/>
                  <a:ea typeface="Symbol"/>
                </a:rPr>
                <a:t></a:t>
              </a:r>
              <a:r>
                <a:rPr b="0" i="1" lang="de-DE" sz="2400" spc="-1" strike="noStrike" baseline="-25000">
                  <a:solidFill>
                    <a:srgbClr val="080808"/>
                  </a:solidFill>
                  <a:latin typeface="Arial"/>
                </a:rPr>
                <a:t>j</a:t>
              </a:r>
              <a:r>
                <a:rPr b="0" lang="de-DE" sz="2400" spc="-1" strike="noStrike">
                  <a:solidFill>
                    <a:srgbClr val="080808"/>
                  </a:solidFill>
                  <a:latin typeface="Arial"/>
                </a:rPr>
                <a:t>    konstan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46b134"/>
                  </a:solidFill>
                  <a:latin typeface="Arial"/>
                </a:rPr>
                <a:t>destruktive Interferenz</a:t>
              </a:r>
              <a:r>
                <a:rPr b="0" lang="de-DE" sz="2400" spc="-1" strike="noStrike">
                  <a:solidFill>
                    <a:srgbClr val="46b134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46b134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46b134"/>
                  </a:solidFill>
                  <a:latin typeface="Arial"/>
                </a:rPr>
                <a:t>konstruktive Interferenz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09680" y="5105520"/>
              <a:ext cx="381240" cy="609480"/>
            </a:xfrm>
            <a:prstGeom prst="downArrow">
              <a:avLst>
                <a:gd name="adj1" fmla="val 50000"/>
                <a:gd name="adj2" fmla="val 39967"/>
              </a:avLst>
            </a:prstGeom>
            <a:solidFill>
              <a:srgbClr val="46b134"/>
            </a:solidFill>
            <a:ln w="9360">
              <a:solidFill>
                <a:srgbClr val="46b1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58000" y="51055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46b134"/>
            </a:solidFill>
            <a:ln w="9360">
              <a:solidFill>
                <a:srgbClr val="46b1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Modenkopp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03520" y="3254400"/>
            <a:ext cx="176976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1 Mo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762120" y="2286000"/>
          <a:ext cx="6172200" cy="45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617220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Modenkopp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103520" y="3254400"/>
            <a:ext cx="17697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3 Mod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62120" y="2286000"/>
          <a:ext cx="6172200" cy="45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617220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Modenkopp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03520" y="3254400"/>
            <a:ext cx="17697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25 Mod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762120" y="2286000"/>
          <a:ext cx="6172200" cy="45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617220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Modenkopp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103520" y="3254400"/>
            <a:ext cx="17697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51 Mod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762120" y="2286000"/>
          <a:ext cx="617220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617220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895480" y="4419720"/>
            <a:ext cx="3962520" cy="609480"/>
          </a:xfrm>
          <a:prstGeom prst="rect">
            <a:avLst/>
          </a:prstGeom>
          <a:solidFill>
            <a:srgbClr val="99cc99"/>
          </a:solidFill>
          <a:ln w="93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09680" y="2895480"/>
            <a:ext cx="5181840" cy="533520"/>
          </a:xfrm>
          <a:prstGeom prst="rect">
            <a:avLst/>
          </a:prstGeom>
          <a:solidFill>
            <a:srgbClr val="99cc99"/>
          </a:solidFill>
          <a:ln w="93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Modenkopp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Abstand der Puls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80808"/>
                </a:solidFill>
                <a:latin typeface="Arial"/>
              </a:rPr>
              <a:t>T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 =  2</a:t>
            </a:r>
            <a:r>
              <a:rPr b="0" i="1" lang="de-DE" sz="2800" spc="-1" strike="noStrike">
                <a:solidFill>
                  <a:srgbClr val="080808"/>
                </a:solidFill>
                <a:latin typeface="Arial"/>
              </a:rPr>
              <a:t>L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/ </a:t>
            </a:r>
            <a:r>
              <a:rPr b="0" i="1" lang="de-DE" sz="28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= 1/</a:t>
            </a: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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= 2</a:t>
            </a: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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/</a:t>
            </a: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</a:t>
            </a:r>
            <a:r>
              <a:rPr b="0" lang="de-DE" sz="2800" spc="-1" strike="noStrike" baseline="-25000">
                <a:solidFill>
                  <a:srgbClr val="080808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Breite der Puls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</a:t>
            </a:r>
            <a:r>
              <a:rPr b="0" i="1" lang="de-DE" sz="2800" spc="-1" strike="noStrike">
                <a:solidFill>
                  <a:srgbClr val="080808"/>
                </a:solidFill>
                <a:latin typeface="Arial"/>
              </a:rPr>
              <a:t>T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= 1 / </a:t>
            </a: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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= 2</a:t>
            </a: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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/</a:t>
            </a: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</a:t>
            </a:r>
            <a:r>
              <a:rPr b="0" lang="de-DE" sz="2800" spc="-1" strike="noStrike" baseline="-25000">
                <a:solidFill>
                  <a:srgbClr val="080808"/>
                </a:solidFill>
                <a:latin typeface="Arial"/>
              </a:rPr>
              <a:t>Gain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Aktive Modenkopp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Moduliere Licht der Frequenz </a:t>
            </a: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</a:t>
            </a:r>
            <a:r>
              <a:rPr b="0" lang="de-DE" sz="2800" spc="-1" strike="noStrike" baseline="-25000">
                <a:solidFill>
                  <a:srgbClr val="080808"/>
                </a:solidFill>
                <a:latin typeface="Arial"/>
              </a:rPr>
              <a:t>0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mit </a:t>
            </a: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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‘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4290"/>
                </a:solidFill>
                <a:latin typeface="Arial"/>
              </a:rPr>
              <a:t>(z.B. mit Akusto-Optischem-Modulator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523880" y="3708360"/>
                <a:ext cx="67438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1399680" y="5105520"/>
            <a:ext cx="74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6b134"/>
                </a:solidFill>
                <a:latin typeface="Arial"/>
              </a:rPr>
              <a:t>Wähle </a:t>
            </a:r>
            <a:r>
              <a:rPr b="0" lang="de-DE" sz="2400" spc="-1" strike="noStrike">
                <a:solidFill>
                  <a:srgbClr val="46b134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>
                <a:solidFill>
                  <a:srgbClr val="46b134"/>
                </a:solidFill>
                <a:latin typeface="Arial"/>
              </a:rPr>
              <a:t>‘ = </a:t>
            </a:r>
            <a:r>
              <a:rPr b="0" lang="de-DE" sz="2400" spc="-1" strike="noStrike">
                <a:solidFill>
                  <a:srgbClr val="46b134"/>
                </a:solidFill>
                <a:latin typeface="Symbol"/>
                <a:ea typeface="Symbol"/>
              </a:rPr>
              <a:t></a:t>
            </a:r>
            <a:r>
              <a:rPr b="0" lang="de-DE" sz="2400" spc="-1" strike="noStrike">
                <a:solidFill>
                  <a:srgbClr val="46b134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46b134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46b134"/>
                </a:solidFill>
                <a:latin typeface="Arial"/>
              </a:rPr>
              <a:t>    Besetzung benachbarter Mod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952880" y="2971800"/>
          <a:ext cx="36054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971800"/>
                    <a:ext cx="36054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Das 2-Niveau System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6960" y="2286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Absorpt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029200" y="3352680"/>
            <a:ext cx="2057400" cy="335304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3352680"/>
            <a:ext cx="2057400" cy="33530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3352680"/>
            <a:ext cx="2133720" cy="3353040"/>
          </a:xfrm>
          <a:prstGeom prst="rect">
            <a:avLst/>
          </a:prstGeom>
          <a:solidFill>
            <a:srgbClr val="99cc99"/>
          </a:solidFill>
          <a:ln w="93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Aktive Modenkopp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Modulat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Grundmode 1. Durchlauf  2. Durchlauf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143000" y="3962520"/>
            <a:ext cx="5095440" cy="2632680"/>
            <a:chOff x="1143000" y="3962520"/>
            <a:chExt cx="5095440" cy="2632680"/>
          </a:xfrm>
        </p:grpSpPr>
        <p:sp>
          <p:nvSpPr>
            <p:cNvPr id="357" name=""/>
            <p:cNvSpPr/>
            <p:nvPr/>
          </p:nvSpPr>
          <p:spPr>
            <a:xfrm>
              <a:off x="1143000" y="5026320"/>
              <a:ext cx="838440" cy="228600"/>
            </a:xfrm>
            <a:prstGeom prst="rightArrow">
              <a:avLst>
                <a:gd name="adj1" fmla="val 50000"/>
                <a:gd name="adj2" fmla="val 91693"/>
              </a:avLst>
            </a:prstGeom>
            <a:solidFill>
              <a:srgbClr val="46b134"/>
            </a:solidFill>
            <a:ln w="9360">
              <a:solidFill>
                <a:srgbClr val="46b1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40720" y="3962520"/>
              <a:ext cx="3897720" cy="26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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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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2819520" y="4724640"/>
              <a:ext cx="457200" cy="914400"/>
              <a:chOff x="2819520" y="4724640"/>
              <a:chExt cx="457200" cy="914400"/>
            </a:xfrm>
          </p:grpSpPr>
          <p:sp>
            <p:nvSpPr>
              <p:cNvPr id="360" name=""/>
              <p:cNvSpPr/>
              <p:nvPr/>
            </p:nvSpPr>
            <p:spPr>
              <a:xfrm flipV="1">
                <a:off x="2819520" y="4724640"/>
                <a:ext cx="457200" cy="457200"/>
              </a:xfrm>
              <a:prstGeom prst="line">
                <a:avLst/>
              </a:prstGeom>
              <a:ln w="9360">
                <a:solidFill>
                  <a:srgbClr val="46b1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19520" y="5181840"/>
                <a:ext cx="457200" cy="457200"/>
              </a:xfrm>
              <a:prstGeom prst="line">
                <a:avLst/>
              </a:prstGeom>
              <a:ln w="9360">
                <a:solidFill>
                  <a:srgbClr val="46b1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19520" y="5181840"/>
                <a:ext cx="457200" cy="0"/>
              </a:xfrm>
              <a:prstGeom prst="line">
                <a:avLst/>
              </a:prstGeom>
              <a:ln w="9360">
                <a:solidFill>
                  <a:srgbClr val="00429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4343400" y="5181840"/>
              <a:ext cx="457200" cy="914400"/>
              <a:chOff x="4343400" y="5181840"/>
              <a:chExt cx="457200" cy="914400"/>
            </a:xfrm>
          </p:grpSpPr>
          <p:sp>
            <p:nvSpPr>
              <p:cNvPr id="364" name=""/>
              <p:cNvSpPr/>
              <p:nvPr/>
            </p:nvSpPr>
            <p:spPr>
              <a:xfrm flipV="1">
                <a:off x="4343400" y="5181840"/>
                <a:ext cx="457200" cy="457200"/>
              </a:xfrm>
              <a:prstGeom prst="line">
                <a:avLst/>
              </a:prstGeom>
              <a:ln w="9360">
                <a:solidFill>
                  <a:srgbClr val="46b1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343400" y="5639040"/>
                <a:ext cx="457200" cy="457200"/>
              </a:xfrm>
              <a:prstGeom prst="line">
                <a:avLst/>
              </a:prstGeom>
              <a:ln w="9360">
                <a:solidFill>
                  <a:srgbClr val="46b1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343400" y="5639040"/>
                <a:ext cx="457200" cy="0"/>
              </a:xfrm>
              <a:prstGeom prst="line">
                <a:avLst/>
              </a:prstGeom>
              <a:ln w="9360">
                <a:solidFill>
                  <a:srgbClr val="00429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4343400" y="4267440"/>
              <a:ext cx="457200" cy="914400"/>
              <a:chOff x="4343400" y="4267440"/>
              <a:chExt cx="457200" cy="914400"/>
            </a:xfrm>
          </p:grpSpPr>
          <p:sp>
            <p:nvSpPr>
              <p:cNvPr id="368" name=""/>
              <p:cNvSpPr/>
              <p:nvPr/>
            </p:nvSpPr>
            <p:spPr>
              <a:xfrm flipV="1">
                <a:off x="4343400" y="4267440"/>
                <a:ext cx="457200" cy="457200"/>
              </a:xfrm>
              <a:prstGeom prst="line">
                <a:avLst/>
              </a:prstGeom>
              <a:ln w="9360">
                <a:solidFill>
                  <a:srgbClr val="46b1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343400" y="4724640"/>
                <a:ext cx="457200" cy="457200"/>
              </a:xfrm>
              <a:prstGeom prst="line">
                <a:avLst/>
              </a:prstGeom>
              <a:ln w="9360">
                <a:solidFill>
                  <a:srgbClr val="46b1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343400" y="4724640"/>
                <a:ext cx="457200" cy="0"/>
              </a:xfrm>
              <a:prstGeom prst="line">
                <a:avLst/>
              </a:prstGeom>
              <a:ln w="9360">
                <a:solidFill>
                  <a:srgbClr val="00429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4343400" y="4724640"/>
              <a:ext cx="457200" cy="914400"/>
              <a:chOff x="4343400" y="4724640"/>
              <a:chExt cx="457200" cy="914400"/>
            </a:xfrm>
          </p:grpSpPr>
          <p:sp>
            <p:nvSpPr>
              <p:cNvPr id="372" name=""/>
              <p:cNvSpPr/>
              <p:nvPr/>
            </p:nvSpPr>
            <p:spPr>
              <a:xfrm flipV="1">
                <a:off x="4343400" y="4724640"/>
                <a:ext cx="457200" cy="457200"/>
              </a:xfrm>
              <a:prstGeom prst="line">
                <a:avLst/>
              </a:prstGeom>
              <a:ln w="9360">
                <a:solidFill>
                  <a:srgbClr val="46b1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343400" y="5181840"/>
                <a:ext cx="457200" cy="457200"/>
              </a:xfrm>
              <a:prstGeom prst="line">
                <a:avLst/>
              </a:prstGeom>
              <a:ln w="9360">
                <a:solidFill>
                  <a:srgbClr val="46b1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343400" y="5181840"/>
                <a:ext cx="457200" cy="0"/>
              </a:xfrm>
              <a:prstGeom prst="line">
                <a:avLst/>
              </a:prstGeom>
              <a:ln w="9360">
                <a:solidFill>
                  <a:srgbClr val="00429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75" name=""/>
          <p:cNvSpPr/>
          <p:nvPr/>
        </p:nvSpPr>
        <p:spPr>
          <a:xfrm>
            <a:off x="7035840" y="4343400"/>
            <a:ext cx="1957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 Durchläuf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2N+1 Mod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Passive Modenkopp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Zufälliger Aufbau einer Modenkopplu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Symbol"/>
                <a:ea typeface="Symbol"/>
              </a:rPr>
              <a:t>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selektive Verstärkung des Pul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sättigbarer Aborber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Kerr-Lins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24280" y="388620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6b134"/>
          </a:solidFill>
          <a:ln w="9360">
            <a:solidFill>
              <a:srgbClr val="46b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Passive Modenkopp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sättigbarer Aborber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90720" y="3048120"/>
          <a:ext cx="357660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8120"/>
                    <a:ext cx="35766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3" name=""/>
          <p:cNvGrpSpPr/>
          <p:nvPr/>
        </p:nvGrpSpPr>
        <p:grpSpPr>
          <a:xfrm>
            <a:off x="1447560" y="6019560"/>
            <a:ext cx="2362320" cy="152280"/>
            <a:chOff x="1447560" y="6019560"/>
            <a:chExt cx="2362320" cy="152280"/>
          </a:xfrm>
        </p:grpSpPr>
        <p:sp>
          <p:nvSpPr>
            <p:cNvPr id="384" name=""/>
            <p:cNvSpPr/>
            <p:nvPr/>
          </p:nvSpPr>
          <p:spPr>
            <a:xfrm flipV="1">
              <a:off x="3809880" y="6019560"/>
              <a:ext cx="0" cy="152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447560" y="6019920"/>
              <a:ext cx="23619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V="1">
            <a:off x="1905120" y="3733560"/>
            <a:ext cx="0" cy="2438280"/>
          </a:xfrm>
          <a:prstGeom prst="line">
            <a:avLst/>
          </a:prstGeom>
          <a:ln w="31680">
            <a:solidFill>
              <a:srgbClr val="0042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371600" y="3733920"/>
            <a:ext cx="533520" cy="0"/>
          </a:xfrm>
          <a:prstGeom prst="line">
            <a:avLst/>
          </a:prstGeom>
          <a:ln w="31680">
            <a:solidFill>
              <a:srgbClr val="0042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35440" y="5153040"/>
            <a:ext cx="469944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modengekoppelter, intensiver Laserpu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geringe Absorption (&lt;&lt; Verstärku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13120" y="3048120"/>
            <a:ext cx="5080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4290"/>
                </a:solidFill>
                <a:latin typeface="Arial"/>
              </a:rPr>
              <a:t>inkohärent überlagerte Mod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429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429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4290"/>
                </a:solidFill>
                <a:latin typeface="Arial"/>
              </a:rPr>
              <a:t>starke Absorption (&gt; Verstärku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Modifikation von Laserpuls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3520" y="281916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Verstärku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10000"/>
                </a:solidFill>
                <a:latin typeface="Arial"/>
              </a:rPr>
              <a:t>Kompression / Dekompress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Verstärkung von Laserpuls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(mehrfacher) Durchgang durch Lasermediu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362320" y="3581280"/>
          <a:ext cx="4946400" cy="25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581280"/>
                    <a:ext cx="4946400" cy="25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1819440" y="3693960"/>
          <a:ext cx="602928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3693960"/>
                    <a:ext cx="602928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Verstärkung von Laserpuls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z.B. regenerativer Verstärk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Puls wird in Laserresonator eingekoppelt und verstärk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Auskopplung bei maximaler Verstärkung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435080" y="388620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6b134"/>
                </a:solidFill>
                <a:latin typeface="Arial"/>
              </a:rPr>
              <a:t>Pumpstrah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48006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.Saph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99160" y="60199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E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83680" y="6324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063520" y="548640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cc99"/>
                </a:solidFill>
                <a:latin typeface="Arial"/>
              </a:rPr>
              <a:t>Pockelszel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12640" y="3886200"/>
            <a:ext cx="288720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77777"/>
                </a:solidFill>
                <a:latin typeface="Arial"/>
              </a:rPr>
              <a:t>polarisationsabhängig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77777"/>
                </a:solidFill>
                <a:latin typeface="Arial"/>
              </a:rPr>
              <a:t>Strahlteil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504960" y="4648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Verstärkung von Laserpuls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Problem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starke Puls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Energiedichte oberhalb Zerstörungsschwell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403848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solidFill>
            <a:srgbClr val="46b134"/>
          </a:solidFill>
          <a:ln w="9360">
            <a:solidFill>
              <a:srgbClr val="46b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Verstärkung von Laserpuls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Lösung: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46b134"/>
                </a:solidFill>
                <a:latin typeface="Arial"/>
              </a:rPr>
              <a:t>„chirped pulsed amplification (CPA)“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Pul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verbreitern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  verstärken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   komprimiere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984240" y="3124080"/>
          <a:ext cx="7778880" cy="31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3124080"/>
                    <a:ext cx="7778880" cy="31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Dekomprimieren </a:t>
            </a:r>
            <a:r>
              <a:rPr b="1" lang="de-DE" sz="2800" spc="-1" strike="noStrike">
                <a:solidFill>
                  <a:srgbClr val="080808"/>
                </a:solidFill>
                <a:latin typeface="Arial"/>
              </a:rPr>
              <a:t>(Stretchen)</a:t>
            </a: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 von Puls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1. dispersives Element (Gitter, Prisma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räumliche Trennung der Frequenzantei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Verzögerungsstreck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unterschiedliche Weglängen für verschieden Frequenzantei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2. dispersives Ele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Zusammenführung der räumlich getrennten Frequenzantei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Dekomprimieren </a:t>
            </a:r>
            <a:r>
              <a:rPr b="1" lang="de-DE" sz="2800" spc="-1" strike="noStrike">
                <a:solidFill>
                  <a:srgbClr val="080808"/>
                </a:solidFill>
                <a:latin typeface="Arial"/>
              </a:rPr>
              <a:t>(Stretchen)</a:t>
            </a: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 von Puls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368360" y="3352680"/>
            <a:ext cx="6870600" cy="2517120"/>
            <a:chOff x="1368360" y="3352680"/>
            <a:chExt cx="6870600" cy="2517120"/>
          </a:xfrm>
        </p:grpSpPr>
        <p:graphicFrame>
          <p:nvGraphicFramePr>
            <p:cNvPr id="418" name=""/>
            <p:cNvGraphicFramePr/>
            <p:nvPr/>
          </p:nvGraphicFramePr>
          <p:xfrm>
            <a:off x="1606320" y="3352680"/>
            <a:ext cx="6400440" cy="229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6320" y="3352680"/>
                      <a:ext cx="6400440" cy="22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0" name=""/>
            <p:cNvSpPr/>
            <p:nvPr/>
          </p:nvSpPr>
          <p:spPr>
            <a:xfrm>
              <a:off x="1368360" y="533376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Gitter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11600" y="541008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Gitter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32840" y="348264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piegel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5562720" y="2971800"/>
          <a:ext cx="298584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971800"/>
                    <a:ext cx="29858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Das 2-Niveau System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76960" y="2286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Absorpt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66680" y="2666880"/>
                <a:ext cx="2629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bs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Dekomprimieren </a:t>
            </a:r>
            <a:r>
              <a:rPr b="1" lang="de-DE" sz="2800" spc="-1" strike="noStrike">
                <a:solidFill>
                  <a:srgbClr val="080808"/>
                </a:solidFill>
                <a:latin typeface="Arial"/>
              </a:rPr>
              <a:t>(Stretchen)</a:t>
            </a: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 von Puls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niedrige Frequenzen langsamer als hoh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46b134"/>
                </a:solidFill>
                <a:latin typeface="Arial"/>
              </a:rPr>
              <a:t>CHIRP“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19520" y="2971800"/>
            <a:ext cx="1447560" cy="228600"/>
          </a:xfrm>
          <a:prstGeom prst="rightArrow">
            <a:avLst>
              <a:gd name="adj1" fmla="val 50000"/>
              <a:gd name="adj2" fmla="val 158307"/>
            </a:avLst>
          </a:prstGeom>
          <a:solidFill>
            <a:srgbClr val="46b134"/>
          </a:solidFill>
          <a:ln w="9360">
            <a:solidFill>
              <a:srgbClr val="46b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057400" y="3162240"/>
            <a:ext cx="5105520" cy="3694320"/>
            <a:chOff x="2057400" y="3162240"/>
            <a:chExt cx="5105520" cy="3694320"/>
          </a:xfrm>
        </p:grpSpPr>
        <p:graphicFrame>
          <p:nvGraphicFramePr>
            <p:cNvPr id="427" name=""/>
            <p:cNvGraphicFramePr/>
            <p:nvPr/>
          </p:nvGraphicFramePr>
          <p:xfrm>
            <a:off x="2209680" y="3162240"/>
            <a:ext cx="4953240" cy="369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3162240"/>
                      <a:ext cx="4953240" cy="369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9" name=""/>
            <p:cNvSpPr/>
            <p:nvPr/>
          </p:nvSpPr>
          <p:spPr>
            <a:xfrm>
              <a:off x="5846400" y="6226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Zei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6200000">
              <a:off x="1520280" y="396684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mplitud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Komprimieren von Puls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wie Dekomprimieren – nur umgekehrt 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143000" y="3424320"/>
          <a:ext cx="723888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424320"/>
                    <a:ext cx="72388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562720" y="2971800"/>
          <a:ext cx="298584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971800"/>
                    <a:ext cx="29858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Das 2-Niveau System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6960" y="2286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Absorpt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66680" y="2666880"/>
                <a:ext cx="2629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bs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814320" y="365760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spontane Emiss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562720" y="2971800"/>
          <a:ext cx="298584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971800"/>
                    <a:ext cx="29858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Das 2-Niveau System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6960" y="2286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Absorpt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66680" y="2666880"/>
                <a:ext cx="2629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bs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14320" y="365760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spontane Emiss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66680" y="4038480"/>
                <a:ext cx="2235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po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952880" y="2971800"/>
          <a:ext cx="3618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971800"/>
                    <a:ext cx="3618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Das 2-Niveau System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1440" y="2286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Absorpt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066680" y="2666880"/>
                <a:ext cx="2629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bs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18360" y="365760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spontane Emiss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066680" y="4038480"/>
                <a:ext cx="2235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po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917640" y="510552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stimulierte Emiss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8:00:28Z</dcterms:created>
  <dc:creator>Rolf</dc:creator>
  <dc:description/>
  <dc:language>en-US</dc:language>
  <cp:lastModifiedBy>rolf</cp:lastModifiedBy>
  <dcterms:modified xsi:type="dcterms:W3CDTF">2004-05-08T15:04:35Z</dcterms:modified>
  <cp:revision>70</cp:revision>
  <dc:subject/>
  <dc:title>Grundlagen der  LASER-Operation</dc:title>
</cp:coreProperties>
</file>